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597-0A8F-47EB-9BFC-37BCBF04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3F5-BD8E-4ED5-99F8-5F70E8FB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402-8F7F-4C8C-9CC2-4EEC215B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F0D-D274-4BED-9B28-9C15026B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2ACC-43D3-4344-BA65-70C9EEA6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01A6-FEDB-41B8-B8C6-CBFB23EF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5FF8-1D5B-491C-96AA-0D59C641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A4E5-634F-4E73-9F8E-E2EC4AF9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16E4-8E36-4BB2-A8A0-0640F2F0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DE12-09DE-4E50-A85A-CC0C01B8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E4E3-5514-49FA-9D32-FB707BF9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021-412A-4FB7-BF18-8316B86C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5F8F-6094-43CE-A8B2-8BC39E4B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37C5-C7F7-43F7-817A-A2111848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0DCF-7C6C-4D14-8571-69F780E7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4144-FC62-4479-A3EC-20CB8FC6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B487-BFDB-484E-9C2D-68E9096F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72B-9BFF-497B-B9E2-105555AC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FFB-658A-487D-86E6-5D6E71A3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B66-805A-4B36-A9B7-469C9C8B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EE2-F5CA-4E07-9304-EC00860B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2C4-037C-4E98-ACBE-29D1C9A1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0FF-05AB-476B-80CC-A1719284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6B6-B8EB-4845-85FF-6740D297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2DBA-A9D1-4C2B-A861-BFB3FFD37E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FD37-1DD7-411B-8CCB-E636767AB2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9840" y="265752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SKRACANIE UŁAMK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DA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81280" y="954000"/>
            <a:ext cx="69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la z Anią przyrządzały sałatkę owocową. Jola użyła    pomarańczy, natomiast Ania    . Czy obie dziewczynki użyły takiej samej ilości pomarańczy do swoich sałate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842000" y="1224000"/>
                <a:ext cx="2235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316640" y="954000"/>
                <a:ext cx="243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" name="Obraz 149" descr=""/>
          <p:cNvPicPr/>
          <p:nvPr/>
        </p:nvPicPr>
        <p:blipFill>
          <a:blip r:embed="rId1"/>
          <a:stretch/>
        </p:blipFill>
        <p:spPr>
          <a:xfrm>
            <a:off x="2592360" y="1898640"/>
            <a:ext cx="4051440" cy="1357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62360" y="32418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5560" y="3249720"/>
            <a:ext cx="31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716280" y="3249720"/>
                <a:ext cx="152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33480" y="4059360"/>
            <a:ext cx="1247760" cy="12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677000" y="4059360"/>
            <a:ext cx="1225800" cy="1261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50920" y="3736800"/>
            <a:ext cx="77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zedstawmy użyte ilości pomarańczy przez dziewczynki za pomocą figu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57360" y="4238640"/>
            <a:ext cx="670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 figurach zostały zamalowane w takich samych części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457360" y="4745160"/>
            <a:ext cx="4861080" cy="393480"/>
            <a:chOff x="2457360" y="4745160"/>
            <a:chExt cx="4861080" cy="39348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7075440" y="4745160"/>
                  <a:ext cx="1526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2457360" y="4745160"/>
              <a:ext cx="48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usimy doprowadzić ułamek    do postac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770440" y="4745160"/>
                  <a:ext cx="1526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699160" y="3203640"/>
                <a:ext cx="152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27000" y="554364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żemy zatem napis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400560" y="5408640"/>
                <a:ext cx="1485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202360" y="5454720"/>
            <a:ext cx="35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konaliśmy czynność zwaną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kracaniem uła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67000" y="6264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Wnios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366640" y="5094360"/>
            <a:ext cx="2384280" cy="49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9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36640" y="1494000"/>
            <a:ext cx="6166080" cy="4508280"/>
            <a:chOff x="1736640" y="1494000"/>
            <a:chExt cx="6166080" cy="4508280"/>
          </a:xfrm>
        </p:grpSpPr>
        <p:graphicFrame>
          <p:nvGraphicFramePr>
            <p:cNvPr id="123" name=""/>
            <p:cNvGraphicFramePr/>
            <p:nvPr/>
          </p:nvGraphicFramePr>
          <p:xfrm>
            <a:off x="1736640" y="1494000"/>
            <a:ext cx="6166080" cy="450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6640" y="1494000"/>
                      <a:ext cx="6166080" cy="450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2185920" y="2135160"/>
              <a:ext cx="5580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kracając ułamek należy 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</a:rPr>
                <a:t>licznik i mianownik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ułamka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podzielić przez tą samą liczb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UŁAMKI NIESKRACAL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80920" y="1359000"/>
            <a:ext cx="805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łamki, których nie można skrócić nazywam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łamkami nieskracalny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050920" y="2965320"/>
                <a:ext cx="598644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701640" y="2349360"/>
            <a:ext cx="31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zykł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17720" y="5273640"/>
            <a:ext cx="58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zy zauważyłeś coś ciekaweg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8T21:15:15Z</dcterms:modified>
  <cp:revision>49</cp:revision>
  <dc:subject/>
  <dc:title>Slajd 1</dc:title>
</cp:coreProperties>
</file>